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CC7-3A32-4428-8C9A-A4AE6DE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FAE-8540-4938-9CBF-A768602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7DB-E4FA-4115-8DE4-5000E13F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951-1936-418F-B6B4-A20002D4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A20-FB10-45C4-B1C6-D801576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123-F3C0-495B-AC3E-D1A631B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869-4836-4C36-BEDE-E80EA979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31F-918C-43CD-B93D-9C249A6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5BE-F745-4FE7-9CD1-0AA10E4E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1A0-14EB-43A1-8AC4-D63445B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757-41EA-4C45-A9D7-30C2E4D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EF8-DA9D-4790-9C57-06DDAD13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7AD-35E3-42DD-BE1A-D6F52551EF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29280" y="2724120"/>
            <a:ext cx="246852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2157480" y="537048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21272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0960" y="2792520"/>
            <a:ext cx="5595840" cy="633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63680" y="4432320"/>
            <a:ext cx="53467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665280" y="3614760"/>
            <a:ext cx="2601720" cy="676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193840" y="3633840"/>
            <a:ext cx="2597400" cy="663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69960" y="5327640"/>
            <a:ext cx="1658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4" descr=""/>
          <p:cNvPicPr/>
          <p:nvPr/>
        </p:nvPicPr>
        <p:blipFill>
          <a:blip r:embed="rId2"/>
          <a:stretch/>
        </p:blipFill>
        <p:spPr>
          <a:xfrm>
            <a:off x="6224760" y="1878120"/>
            <a:ext cx="245556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023920" y="5010120"/>
            <a:ext cx="11574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450720" y="12128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480960" y="4492800"/>
            <a:ext cx="523728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6640" y="3986280"/>
            <a:ext cx="1805040" cy="506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824120" y="3930480"/>
            <a:ext cx="1365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536400" y="5048280"/>
            <a:ext cx="16574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450720" y="1914480"/>
            <a:ext cx="56880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731960" y="23652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1731960" y="28224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469800" y="3382920"/>
            <a:ext cx="5686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3"/>
          <a:stretch/>
        </p:blipFill>
        <p:spPr>
          <a:xfrm>
            <a:off x="2444760" y="3968640"/>
            <a:ext cx="1803240" cy="5065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4"/>
          <a:stretch/>
        </p:blipFill>
        <p:spPr>
          <a:xfrm>
            <a:off x="2610000" y="5052960"/>
            <a:ext cx="17967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0:22Z</dcterms:modified>
  <cp:revision>11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